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6.wmf" ContentType="image/x-wmf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0.jpeg" ContentType="image/jpeg"/>
  <Override PartName="/ppt/media/image40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7.png" ContentType="image/png"/>
  <Override PartName="/ppt/media/image12.png" ContentType="image/png"/>
  <Override PartName="/ppt/media/image25.png" ContentType="image/png"/>
  <Override PartName="/ppt/media/image42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07B8-8CB9-407E-BD7A-6C0C60A4FC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8275-1925-4455-A437-8580E5B014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20B3-A842-4E18-AB3D-8FC43B6A41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BBBA-6956-41DC-9C52-DB9EB8AB06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E19C-DD60-41D5-BAF3-756EFB8B40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D731-40DE-4FFD-9988-2DBBB14ADC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61BF-9CC5-40F2-8A62-8306E13ABB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E71F-0850-4027-8D90-227B3E1DDE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9978-24FE-40CD-9476-45CF1DC430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AB76-2DA2-4257-A7B2-21A21B94C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7C41-36A7-43E5-8225-66819E7B7E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8506-A32B-404F-94F6-239B71BA56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Titelfolienpatch_4zu3.png"/>
          <p:cNvPicPr/>
          <p:nvPr/>
        </p:nvPicPr>
        <p:blipFill>
          <a:blip r:embed="rId3"/>
          <a:stretch/>
        </p:blipFill>
        <p:spPr>
          <a:xfrm>
            <a:off x="171360" y="4060800"/>
            <a:ext cx="8466120" cy="25146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rmAutofit fontScale="20000"/>
          </a:bodyPr>
          <a:p>
            <a:pPr marL="68400" indent="-684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1" marL="158040" indent="-666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2" marL="246600" indent="-637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3" marL="34524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4" marL="43668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5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6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pic>
        <p:nvPicPr>
          <p:cNvPr id="41" name="Picture 4" descr="image3.png"/>
          <p:cNvPicPr/>
          <p:nvPr/>
        </p:nvPicPr>
        <p:blipFill>
          <a:blip r:embed="rId4"/>
          <a:stretch/>
        </p:blipFill>
        <p:spPr>
          <a:xfrm>
            <a:off x="5468760" y="4284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Logopatch.png"/>
          <p:cNvPicPr/>
          <p:nvPr/>
        </p:nvPicPr>
        <p:blipFill>
          <a:blip r:embed="rId5"/>
          <a:stretch/>
        </p:blipFill>
        <p:spPr>
          <a:xfrm>
            <a:off x="6796080" y="331920"/>
            <a:ext cx="2166840" cy="1500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C1170-3E13-4F49-A47B-D1383A8219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10" descr="Titelfolienpatch_4zu3.png"/>
          <p:cNvPicPr/>
          <p:nvPr/>
        </p:nvPicPr>
        <p:blipFill>
          <a:blip r:embed="rId3"/>
          <a:stretch/>
        </p:blipFill>
        <p:spPr>
          <a:xfrm>
            <a:off x="171360" y="4062240"/>
            <a:ext cx="84679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Bild 9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Bild 7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22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26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66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8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210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Bild 10" descr="Patch_Titel_4zu3.png"/>
          <p:cNvPicPr/>
          <p:nvPr/>
        </p:nvPicPr>
        <p:blipFill>
          <a:blip r:embed="rId4"/>
          <a:stretch/>
        </p:blipFill>
        <p:spPr>
          <a:xfrm>
            <a:off x="181080" y="339840"/>
            <a:ext cx="6356160" cy="1500120"/>
          </a:xfrm>
          <a:prstGeom prst="rect">
            <a:avLst/>
          </a:prstGeom>
          <a:ln w="0">
            <a:noFill/>
          </a:ln>
        </p:spPr>
      </p:pic>
      <p:pic>
        <p:nvPicPr>
          <p:cNvPr id="213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Bild 11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ild 4" descr="Patch_Titel_4zu3.png"/>
          <p:cNvPicPr/>
          <p:nvPr/>
        </p:nvPicPr>
        <p:blipFill>
          <a:blip r:embed="rId3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254" name="Bild 10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Bild 6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hyperlink" Target="https://play.google.com/store/apps/details?id=com.vidanalysis.free" TargetMode="External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ISTAGE 3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TEACHING UNIT „UNDER PRESSURE“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ACTIVITIES AND EXPERIMENTS WITH THE AIR PRESSURE INSIDE THE BALL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Corina TOMA                                                         Philippe JEANJACQUOT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296" name="Picture 3" descr="soccer-clip-art-black-and-white-xigMGa5jT.png"/>
          <p:cNvPicPr/>
          <p:nvPr/>
        </p:nvPicPr>
        <p:blipFill>
          <a:blip r:embed="rId1"/>
          <a:stretch/>
        </p:blipFill>
        <p:spPr>
          <a:xfrm>
            <a:off x="1004760" y="789120"/>
            <a:ext cx="7132680" cy="3736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stickers-ballon-foot-1-R1-172418-2.png"/>
          <p:cNvPicPr/>
          <p:nvPr/>
        </p:nvPicPr>
        <p:blipFill>
          <a:blip r:embed="rId2"/>
          <a:stretch/>
        </p:blipFill>
        <p:spPr>
          <a:xfrm>
            <a:off x="1081080" y="830160"/>
            <a:ext cx="99396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5" name="Picture 2" descr="IMG_1980.jpeg"/>
          <p:cNvPicPr/>
          <p:nvPr/>
        </p:nvPicPr>
        <p:blipFill>
          <a:blip r:embed="rId1"/>
          <a:stretch/>
        </p:blipFill>
        <p:spPr>
          <a:xfrm>
            <a:off x="2039760" y="2700360"/>
            <a:ext cx="54468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7" name="Picture 2" descr="Untitled 12.jpg"/>
          <p:cNvPicPr/>
          <p:nvPr/>
        </p:nvPicPr>
        <p:blipFill>
          <a:blip r:embed="rId1"/>
          <a:stretch/>
        </p:blipFill>
        <p:spPr>
          <a:xfrm>
            <a:off x="2658960" y="277812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648240" y="3147840"/>
            <a:ext cx="847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70" name="Picture 2" descr="Untitled 13.jpg"/>
          <p:cNvPicPr/>
          <p:nvPr/>
        </p:nvPicPr>
        <p:blipFill>
          <a:blip r:embed="rId1"/>
          <a:stretch/>
        </p:blipFill>
        <p:spPr>
          <a:xfrm>
            <a:off x="600120" y="3446640"/>
            <a:ext cx="4281480" cy="3209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103560" y="52894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IMG_1982.jpeg"/>
          <p:cNvPicPr/>
          <p:nvPr/>
        </p:nvPicPr>
        <p:blipFill>
          <a:blip r:embed="rId3"/>
          <a:stretch/>
        </p:blipFill>
        <p:spPr>
          <a:xfrm>
            <a:off x="5468760" y="1736640"/>
            <a:ext cx="3162600" cy="2371680"/>
          </a:xfrm>
          <a:prstGeom prst="rect">
            <a:avLst/>
          </a:prstGeom>
          <a:ln w="0">
            <a:noFill/>
          </a:ln>
        </p:spPr>
      </p:pic>
      <p:sp>
        <p:nvSpPr>
          <p:cNvPr id="373" name="Line 5"/>
          <p:cNvSpPr/>
          <p:nvPr/>
        </p:nvSpPr>
        <p:spPr>
          <a:xfrm flipV="1">
            <a:off x="6483240" y="2079360"/>
            <a:ext cx="0" cy="64908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54840" y="22050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full)= 5.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IMG_1983.jpeg"/>
          <p:cNvPicPr/>
          <p:nvPr/>
        </p:nvPicPr>
        <p:blipFill>
          <a:blip r:embed="rId1"/>
          <a:stretch/>
        </p:blipFill>
        <p:spPr>
          <a:xfrm>
            <a:off x="5327640" y="1809720"/>
            <a:ext cx="3273480" cy="2452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77" name="Line 3"/>
          <p:cNvSpPr/>
          <p:nvPr/>
        </p:nvSpPr>
        <p:spPr>
          <a:xfrm flipV="1">
            <a:off x="5899320" y="2401560"/>
            <a:ext cx="0" cy="37476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491200" y="24210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empty)= 0.9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5" descr="Untitled 14.jpg"/>
          <p:cNvPicPr/>
          <p:nvPr/>
        </p:nvPicPr>
        <p:blipFill>
          <a:blip r:embed="rId2"/>
          <a:stretch/>
        </p:blipFill>
        <p:spPr>
          <a:xfrm>
            <a:off x="1457280" y="413064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stickers-ballon-foot-1-R1-172418-2.png"/>
          <p:cNvPicPr/>
          <p:nvPr/>
        </p:nvPicPr>
        <p:blipFill>
          <a:blip r:embed="rId3"/>
          <a:stretch/>
        </p:blipFill>
        <p:spPr>
          <a:xfrm>
            <a:off x="3173400" y="5670720"/>
            <a:ext cx="868320" cy="21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82" name="Picture 2" descr="Untitled 2 - copie.png"/>
          <p:cNvPicPr/>
          <p:nvPr/>
        </p:nvPicPr>
        <p:blipFill>
          <a:blip r:embed="rId1"/>
          <a:stretch/>
        </p:blipFill>
        <p:spPr>
          <a:xfrm>
            <a:off x="-757080" y="1035000"/>
            <a:ext cx="914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530360" y="2682720"/>
            <a:ext cx="39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35x24x5.6 = 4704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109560" y="2682720"/>
            <a:ext cx="193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4.70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15320" y="3557520"/>
            <a:ext cx="42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35x24x0.9 = 756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6097680" y="3573360"/>
            <a:ext cx="235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0.76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572480" y="4433760"/>
            <a:ext cx="338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4.70-0.76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9" descr="stickers-ballon-foot-1-R1-172418-2.png"/>
          <p:cNvPicPr/>
          <p:nvPr/>
        </p:nvPicPr>
        <p:blipFill>
          <a:blip r:embed="rId1"/>
          <a:stretch/>
        </p:blipFill>
        <p:spPr>
          <a:xfrm>
            <a:off x="293760" y="2352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tickers-ballon-foot-1-R1-172418-2.png"/>
          <p:cNvPicPr/>
          <p:nvPr/>
        </p:nvPicPr>
        <p:blipFill>
          <a:blip r:embed="rId2"/>
          <a:stretch/>
        </p:blipFill>
        <p:spPr>
          <a:xfrm>
            <a:off x="293760" y="3672000"/>
            <a:ext cx="1143000" cy="257040"/>
          </a:xfrm>
          <a:prstGeom prst="rect">
            <a:avLst/>
          </a:prstGeom>
          <a:ln w="0">
            <a:noFill/>
          </a:ln>
        </p:spPr>
      </p:pic>
      <p:sp>
        <p:nvSpPr>
          <p:cNvPr id="391" name="Oval 11"/>
          <p:cNvSpPr/>
          <p:nvPr/>
        </p:nvSpPr>
        <p:spPr>
          <a:xfrm>
            <a:off x="230040" y="4110120"/>
            <a:ext cx="1270080" cy="1270080"/>
          </a:xfrm>
          <a:prstGeom prst="ellipse">
            <a:avLst/>
          </a:prstGeom>
          <a:noFill/>
          <a:ln w="9360">
            <a:solidFill>
              <a:srgbClr val="46aac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093720" y="4437000"/>
            <a:ext cx="18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NSITY OF THE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525840" y="2398680"/>
            <a:ext cx="215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m/v(ai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504600" y="3368520"/>
            <a:ext cx="220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5.2/3.9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583080" y="4489560"/>
            <a:ext cx="2236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1.32 g/L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94600" y="5373720"/>
            <a:ext cx="753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The real value is 1.2 g/L at the temperature of the measure (25°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971640" y="58420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Calibri"/>
              </a:rPr>
              <a:t>The errors can occur principally from the measure of the volume (to get a good empty ball)  and also from the measure of the pres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4248757-bottle.jpg"/>
          <p:cNvPicPr/>
          <p:nvPr/>
        </p:nvPicPr>
        <p:blipFill>
          <a:blip r:embed="rId1"/>
          <a:srcRect l="33806" t="14973" r="28346" b="8547"/>
          <a:stretch/>
        </p:blipFill>
        <p:spPr>
          <a:xfrm rot="1781400">
            <a:off x="1204560" y="2572920"/>
            <a:ext cx="131616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2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pendence of the bouncing height with the press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For an elastic collision with the grou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coefficient of restitution 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ball is falling down from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after the collision the ball can reac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5" name="Picture 3" descr="Macintosh HD:Users:philippejeanjacquot:Documents:artsandstars:Istage3:teaching unit back to the pressure:equations:Equation 07.png"/>
          <p:cNvPicPr/>
          <p:nvPr/>
        </p:nvPicPr>
        <p:blipFill>
          <a:blip r:embed="rId1"/>
          <a:stretch/>
        </p:blipFill>
        <p:spPr>
          <a:xfrm>
            <a:off x="5867280" y="2205000"/>
            <a:ext cx="1305000" cy="714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cintosh HD:Users:philippejeanjacquot:Documents:artsandstars:Istage3:teaching unit back to the pressure:equations:Equation 08.png"/>
          <p:cNvPicPr/>
          <p:nvPr/>
        </p:nvPicPr>
        <p:blipFill>
          <a:blip r:embed="rId2"/>
          <a:stretch/>
        </p:blipFill>
        <p:spPr>
          <a:xfrm>
            <a:off x="1552680" y="3460680"/>
            <a:ext cx="1631880" cy="760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Macintosh HD:Users:philippejeanjacquot:Documents:artsandstars:Istage3:teaching unit back to the pressure:equations:Equation 09.png"/>
          <p:cNvPicPr/>
          <p:nvPr/>
        </p:nvPicPr>
        <p:blipFill>
          <a:blip r:embed="rId3"/>
          <a:stretch/>
        </p:blipFill>
        <p:spPr>
          <a:xfrm>
            <a:off x="1514520" y="4429080"/>
            <a:ext cx="1655640" cy="72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Macintosh HD:Users:philippejeanjacquot:Documents:artsandstars:Istage3:back to the pressure:equations:Equation 2.png"/>
          <p:cNvPicPr/>
          <p:nvPr/>
        </p:nvPicPr>
        <p:blipFill>
          <a:blip r:embed="rId4"/>
          <a:stretch/>
        </p:blipFill>
        <p:spPr>
          <a:xfrm>
            <a:off x="3809880" y="5318280"/>
            <a:ext cx="101916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you need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9280" y="1916280"/>
            <a:ext cx="8123400" cy="3735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Pump with manometer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Measuring tape or a marked paper tape that can be stuck on the w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martpho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VidAnalysis appl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Grafik 6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to do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12" name="Picture 2" descr="C:\Users\Corina\Desktop\Brussel_presentation\IMAG1017.jpg"/>
          <p:cNvPicPr/>
          <p:nvPr/>
        </p:nvPicPr>
        <p:blipFill>
          <a:blip r:embed="rId1"/>
          <a:stretch/>
        </p:blipFill>
        <p:spPr>
          <a:xfrm>
            <a:off x="3203640" y="2143080"/>
            <a:ext cx="2905200" cy="193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Corina\Documents\Fotbal\Phillipe\Poze_bune\bb1.jpg"/>
          <p:cNvPicPr/>
          <p:nvPr/>
        </p:nvPicPr>
        <p:blipFill>
          <a:blip r:embed="rId2"/>
          <a:stretch/>
        </p:blipFill>
        <p:spPr>
          <a:xfrm>
            <a:off x="907920" y="1924200"/>
            <a:ext cx="1673280" cy="29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Users\Corina\Documents\Fotbal\Phillipe\Poze_bune\bb4.jpg"/>
          <p:cNvPicPr/>
          <p:nvPr/>
        </p:nvPicPr>
        <p:blipFill>
          <a:blip r:embed="rId3"/>
          <a:stretch/>
        </p:blipFill>
        <p:spPr>
          <a:xfrm>
            <a:off x="6599160" y="2757600"/>
            <a:ext cx="197352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Resul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7600" y="1925640"/>
            <a:ext cx="535932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Reading the heights from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video using VidAnaly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4" descr="Macintosh HD:Users:philippejeanjacquot:Documents:artsandstars:Istage3:teaching unit back to the pressure:Graph:graph 3 e vs P (ball 2).png"/>
          <p:cNvPicPr/>
          <p:nvPr/>
        </p:nvPicPr>
        <p:blipFill>
          <a:blip r:embed="rId1"/>
          <a:stretch/>
        </p:blipFill>
        <p:spPr>
          <a:xfrm>
            <a:off x="684360" y="3013200"/>
            <a:ext cx="3984480" cy="2939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5319720" y="2403360"/>
            <a:ext cx="2635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0" name="Picture 2" descr="Cover art"/>
          <p:cNvPicPr/>
          <p:nvPr/>
        </p:nvPicPr>
        <p:blipFill>
          <a:blip r:embed="rId1"/>
          <a:stretch/>
        </p:blipFill>
        <p:spPr>
          <a:xfrm>
            <a:off x="3952800" y="291960"/>
            <a:ext cx="1631880" cy="163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Corina\Desktop\Brussel_presentation\Screenshot_2016-05-22-10-05-58.png"/>
          <p:cNvPicPr/>
          <p:nvPr/>
        </p:nvPicPr>
        <p:blipFill>
          <a:blip r:embed="rId2"/>
          <a:stretch/>
        </p:blipFill>
        <p:spPr>
          <a:xfrm>
            <a:off x="1378080" y="2874960"/>
            <a:ext cx="2146320" cy="32194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3924360" y="233352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play.google.com/store/apps/details?id=com.vidanalysis.fre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Record a video and import into the a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Calibrate the video: mark the length of the known distance in the frame and insert the re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4" name="Picture 2" descr="C:\Users\Corina\Desktop\Brussel_presentation\Screenshot_2016-05-22-10-06-51.png"/>
          <p:cNvPicPr/>
          <p:nvPr/>
        </p:nvPicPr>
        <p:blipFill>
          <a:blip r:embed="rId1"/>
          <a:stretch/>
        </p:blipFill>
        <p:spPr>
          <a:xfrm>
            <a:off x="906480" y="1790640"/>
            <a:ext cx="1836720" cy="2755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2987640" y="1773360"/>
            <a:ext cx="5113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Pick the origin of the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Mark the ball by tapping on it in every fr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iagrams are generated automaticall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x = f(t), y = f(t) and y = f(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x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 and 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y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ata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6459480" y="4111560"/>
            <a:ext cx="1495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675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r>
              <a:rPr b="0" lang="de-DE" sz="6700" spc="-1" strike="noStrike">
                <a:solidFill>
                  <a:srgbClr val="031d40"/>
                </a:solidFill>
                <a:latin typeface="Calibri"/>
              </a:rPr>
              <a:t>  </a:t>
            </a:r>
            <a:endParaRPr b="0" lang="en-US" sz="6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An inventive way to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tudy the propertie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of the aur acros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WE ARE GOING TO DO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71640" y="1700280"/>
            <a:ext cx="7129440" cy="9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MEASURE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pressure inside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mass of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volume of the ball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FIGURE OUT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at air has a mass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density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E ARE GOING FIGURE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pieren 13"/>
          <p:cNvGrpSpPr/>
          <p:nvPr/>
        </p:nvGrpSpPr>
        <p:grpSpPr>
          <a:xfrm>
            <a:off x="539640" y="2205000"/>
            <a:ext cx="362160" cy="1238400"/>
            <a:chOff x="539640" y="2205000"/>
            <a:chExt cx="362160" cy="1238400"/>
          </a:xfrm>
        </p:grpSpPr>
        <p:pic>
          <p:nvPicPr>
            <p:cNvPr id="307" name="Picture 6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539640" y="2205000"/>
              <a:ext cx="3621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7" descr="stickers-ballon-foot-1-R1-172418-2.png"/>
            <p:cNvPicPr/>
            <p:nvPr/>
          </p:nvPicPr>
          <p:blipFill>
            <a:blip r:embed="rId2"/>
            <a:stretch/>
          </p:blipFill>
          <p:spPr>
            <a:xfrm>
              <a:off x="539640" y="2643120"/>
              <a:ext cx="36216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stickers-ballon-foot-1-R1-172418-2.png"/>
            <p:cNvPicPr/>
            <p:nvPr/>
          </p:nvPicPr>
          <p:blipFill>
            <a:blip r:embed="rId3"/>
            <a:stretch/>
          </p:blipFill>
          <p:spPr>
            <a:xfrm>
              <a:off x="539640" y="3081600"/>
              <a:ext cx="362160" cy="36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9" descr="stickers-ballon-foot-1-R1-172418-2.png"/>
          <p:cNvPicPr/>
          <p:nvPr/>
        </p:nvPicPr>
        <p:blipFill>
          <a:blip r:embed="rId4"/>
          <a:stretch/>
        </p:blipFill>
        <p:spPr>
          <a:xfrm>
            <a:off x="539640" y="442584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84812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30064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stickers-ballon-foot-1-R1-172418-2.png"/>
          <p:cNvPicPr/>
          <p:nvPr/>
        </p:nvPicPr>
        <p:blipFill>
          <a:blip r:embed="rId7"/>
          <a:stretch/>
        </p:blipFill>
        <p:spPr>
          <a:xfrm>
            <a:off x="539640" y="5730840"/>
            <a:ext cx="36216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736720" cy="406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FIT TO EVERY LEVE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240" y="1536840"/>
            <a:ext cx="254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PRIMARY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11280" y="1986120"/>
            <a:ext cx="81230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air has a m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stickers-ballon-foot-1-R1-172418-2.png"/>
          <p:cNvPicPr/>
          <p:nvPr/>
        </p:nvPicPr>
        <p:blipFill>
          <a:blip r:embed="rId2"/>
          <a:stretch/>
        </p:blipFill>
        <p:spPr>
          <a:xfrm>
            <a:off x="539640" y="205884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06600" y="3030480"/>
            <a:ext cx="7778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Densit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036240" y="2543040"/>
            <a:ext cx="2363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MIDDLE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11280" y="472428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Show the effect of the buoyanc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9" descr="stickers-ballon-foot-1-R1-172418-2.png"/>
          <p:cNvPicPr/>
          <p:nvPr/>
        </p:nvPicPr>
        <p:blipFill>
          <a:blip r:embed="rId3"/>
          <a:stretch/>
        </p:blipFill>
        <p:spPr>
          <a:xfrm>
            <a:off x="527040" y="3573360"/>
            <a:ext cx="361800" cy="3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stickers-ballon-foot-1-R1-172418-2.png"/>
          <p:cNvPicPr/>
          <p:nvPr/>
        </p:nvPicPr>
        <p:blipFill>
          <a:blip r:embed="rId4"/>
          <a:stretch/>
        </p:blipFill>
        <p:spPr>
          <a:xfrm>
            <a:off x="527040" y="314172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1"/>
          <p:cNvSpPr/>
          <p:nvPr/>
        </p:nvSpPr>
        <p:spPr>
          <a:xfrm>
            <a:off x="3076920" y="4221000"/>
            <a:ext cx="201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HIGH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2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79736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229360"/>
            <a:ext cx="3621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PROCED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8" name="AutoShape 2"/>
          <p:cNvSpPr/>
          <p:nvPr/>
        </p:nvSpPr>
        <p:spPr>
          <a:xfrm rot="5277000">
            <a:off x="5972400" y="5074200"/>
            <a:ext cx="1657440" cy="16304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21600" h="21600">
                <a:moveTo>
                  <a:pt x="1123" y="2271"/>
                </a:moveTo>
                <a:lnTo>
                  <a:pt x="165" y="4208"/>
                </a:lnTo>
                <a:cubicBezTo>
                  <a:pt x="213" y="4208"/>
                  <a:pt x="262" y="4206"/>
                  <a:pt x="310" y="4206"/>
                </a:cubicBezTo>
                <a:cubicBezTo>
                  <a:pt x="9433" y="4206"/>
                  <a:pt x="16917" y="11471"/>
                  <a:pt x="17462" y="20609"/>
                </a:cubicBezTo>
                <a:lnTo>
                  <a:pt x="19398" y="21600"/>
                </a:lnTo>
                <a:lnTo>
                  <a:pt x="21600" y="20473"/>
                </a:lnTo>
                <a:cubicBezTo>
                  <a:pt x="21466" y="17973"/>
                  <a:pt x="20915" y="15544"/>
                  <a:pt x="19956" y="13239"/>
                </a:cubicBezTo>
                <a:cubicBezTo>
                  <a:pt x="18882" y="10657"/>
                  <a:pt x="17345" y="8339"/>
                  <a:pt x="15387" y="6349"/>
                </a:cubicBezTo>
                <a:cubicBezTo>
                  <a:pt x="13430" y="4359"/>
                  <a:pt x="11150" y="2796"/>
                  <a:pt x="8610" y="1704"/>
                </a:cubicBezTo>
                <a:cubicBezTo>
                  <a:pt x="5980" y="573"/>
                  <a:pt x="3188" y="0"/>
                  <a:pt x="310" y="0"/>
                </a:cubicBezTo>
                <a:cubicBezTo>
                  <a:pt x="207" y="0"/>
                  <a:pt x="103" y="1"/>
                  <a:pt x="0" y="2"/>
                </a:cubicBezTo>
                <a:cubicBezTo>
                  <a:pt x="0" y="2"/>
                  <a:pt x="1123" y="2271"/>
                  <a:pt x="1123" y="2271"/>
                </a:cubicBezTo>
                <a:close/>
              </a:path>
            </a:pathLst>
          </a:custGeom>
          <a:solidFill>
            <a:srgbClr val="f58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 rot="2755800">
            <a:off x="5167440" y="2858400"/>
            <a:ext cx="1656000" cy="16066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21600" h="21600">
                <a:moveTo>
                  <a:pt x="4110" y="21433"/>
                </a:moveTo>
                <a:cubicBezTo>
                  <a:pt x="4303" y="12086"/>
                  <a:pt x="11600" y="4511"/>
                  <a:pt x="20645" y="4232"/>
                </a:cubicBezTo>
                <a:lnTo>
                  <a:pt x="21600" y="2276"/>
                </a:lnTo>
                <a:lnTo>
                  <a:pt x="20489" y="0"/>
                </a:lnTo>
                <a:cubicBezTo>
                  <a:pt x="17870" y="83"/>
                  <a:pt x="15328" y="656"/>
                  <a:pt x="12923" y="1705"/>
                </a:cubicBezTo>
                <a:cubicBezTo>
                  <a:pt x="10403" y="2804"/>
                  <a:pt x="8140" y="4377"/>
                  <a:pt x="6197" y="6381"/>
                </a:cubicBezTo>
                <a:cubicBezTo>
                  <a:pt x="4254" y="8384"/>
                  <a:pt x="2729" y="10718"/>
                  <a:pt x="1663" y="13317"/>
                </a:cubicBezTo>
                <a:cubicBezTo>
                  <a:pt x="585" y="15944"/>
                  <a:pt x="26" y="18730"/>
                  <a:pt x="0" y="21600"/>
                </a:cubicBezTo>
                <a:lnTo>
                  <a:pt x="2216" y="20450"/>
                </a:lnTo>
                <a:cubicBezTo>
                  <a:pt x="2216" y="20450"/>
                  <a:pt x="4110" y="21433"/>
                  <a:pt x="4110" y="21433"/>
                </a:cubicBezTo>
                <a:close/>
              </a:path>
            </a:pathLst>
          </a:custGeom>
          <a:solidFill>
            <a:srgbClr val="c0c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 flipH="1" rot="5241600">
            <a:off x="2306880" y="2867400"/>
            <a:ext cx="1655640" cy="1628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21600" h="21600">
                <a:moveTo>
                  <a:pt x="20477" y="19329"/>
                </a:moveTo>
                <a:lnTo>
                  <a:pt x="21436" y="17392"/>
                </a:lnTo>
                <a:cubicBezTo>
                  <a:pt x="21387" y="17392"/>
                  <a:pt x="21339" y="17394"/>
                  <a:pt x="21290" y="17394"/>
                </a:cubicBezTo>
                <a:cubicBezTo>
                  <a:pt x="12167" y="17394"/>
                  <a:pt x="4683" y="10129"/>
                  <a:pt x="4138" y="991"/>
                </a:cubicBezTo>
                <a:lnTo>
                  <a:pt x="2202" y="0"/>
                </a:lnTo>
                <a:lnTo>
                  <a:pt x="0" y="1127"/>
                </a:lnTo>
                <a:cubicBezTo>
                  <a:pt x="134" y="3627"/>
                  <a:pt x="685" y="6056"/>
                  <a:pt x="1644" y="8361"/>
                </a:cubicBezTo>
                <a:cubicBezTo>
                  <a:pt x="2718" y="10943"/>
                  <a:pt x="4255" y="13261"/>
                  <a:pt x="6213" y="15251"/>
                </a:cubicBezTo>
                <a:cubicBezTo>
                  <a:pt x="8170" y="17241"/>
                  <a:pt x="10450" y="18804"/>
                  <a:pt x="12990" y="19896"/>
                </a:cubicBezTo>
                <a:cubicBezTo>
                  <a:pt x="15620" y="21027"/>
                  <a:pt x="18412" y="21600"/>
                  <a:pt x="21290" y="21600"/>
                </a:cubicBezTo>
                <a:cubicBezTo>
                  <a:pt x="21393" y="21600"/>
                  <a:pt x="21497" y="21599"/>
                  <a:pt x="21600" y="21598"/>
                </a:cubicBezTo>
                <a:cubicBezTo>
                  <a:pt x="21600" y="21598"/>
                  <a:pt x="20477" y="19329"/>
                  <a:pt x="20477" y="19329"/>
                </a:cubicBezTo>
                <a:close/>
              </a:path>
            </a:pathLst>
          </a:custGeom>
          <a:solidFill>
            <a:srgbClr val="ffd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"/>
          <p:cNvSpPr/>
          <p:nvPr/>
        </p:nvSpPr>
        <p:spPr>
          <a:xfrm rot="5978400">
            <a:off x="3617640" y="4986000"/>
            <a:ext cx="1668600" cy="161784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21600" h="21600">
                <a:moveTo>
                  <a:pt x="17490" y="167"/>
                </a:moveTo>
                <a:cubicBezTo>
                  <a:pt x="17297" y="9514"/>
                  <a:pt x="10000" y="17089"/>
                  <a:pt x="955" y="17368"/>
                </a:cubicBezTo>
                <a:lnTo>
                  <a:pt x="0" y="19324"/>
                </a:lnTo>
                <a:lnTo>
                  <a:pt x="1111" y="21600"/>
                </a:lnTo>
                <a:cubicBezTo>
                  <a:pt x="3730" y="21517"/>
                  <a:pt x="6272" y="20944"/>
                  <a:pt x="8677" y="19895"/>
                </a:cubicBezTo>
                <a:cubicBezTo>
                  <a:pt x="11197" y="18796"/>
                  <a:pt x="13460" y="17223"/>
                  <a:pt x="15403" y="15219"/>
                </a:cubicBezTo>
                <a:cubicBezTo>
                  <a:pt x="17346" y="13216"/>
                  <a:pt x="18871" y="10882"/>
                  <a:pt x="19937" y="8283"/>
                </a:cubicBezTo>
                <a:cubicBezTo>
                  <a:pt x="21015" y="5656"/>
                  <a:pt x="21574" y="2870"/>
                  <a:pt x="21600" y="0"/>
                </a:cubicBezTo>
                <a:lnTo>
                  <a:pt x="19384" y="1150"/>
                </a:lnTo>
                <a:cubicBezTo>
                  <a:pt x="19384" y="1150"/>
                  <a:pt x="17490" y="167"/>
                  <a:pt x="17490" y="167"/>
                </a:cubicBezTo>
                <a:close/>
              </a:path>
            </a:pathLst>
          </a:custGeom>
          <a:solidFill>
            <a:srgbClr val="8fd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520560" y="1122480"/>
            <a:ext cx="4627800" cy="2817720"/>
            <a:chOff x="520560" y="1122480"/>
            <a:chExt cx="4627800" cy="2817720"/>
          </a:xfrm>
        </p:grpSpPr>
        <p:pic>
          <p:nvPicPr>
            <p:cNvPr id="333" name="Picture 7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2893320" y="2626560"/>
              <a:ext cx="8460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Untitled 12.png"/>
            <p:cNvPicPr/>
            <p:nvPr/>
          </p:nvPicPr>
          <p:blipFill>
            <a:blip r:embed="rId2"/>
            <a:stretch/>
          </p:blipFill>
          <p:spPr>
            <a:xfrm>
              <a:off x="520560" y="1122480"/>
              <a:ext cx="37566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9"/>
            <p:cNvSpPr/>
            <p:nvPr/>
          </p:nvSpPr>
          <p:spPr>
            <a:xfrm>
              <a:off x="1882080" y="1854360"/>
              <a:ext cx="32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1) Start with the maximum of 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3637080" y="3751200"/>
            <a:ext cx="2590560" cy="1207800"/>
            <a:chOff x="3637080" y="3751200"/>
            <a:chExt cx="2590560" cy="1207800"/>
          </a:xfrm>
        </p:grpSpPr>
        <p:pic>
          <p:nvPicPr>
            <p:cNvPr id="337" name="Picture 11" descr="Untitled 15.png"/>
            <p:cNvPicPr/>
            <p:nvPr/>
          </p:nvPicPr>
          <p:blipFill>
            <a:blip r:embed="rId3"/>
            <a:srcRect l="30649" t="37889" r="26068" b="18314"/>
            <a:stretch/>
          </p:blipFill>
          <p:spPr>
            <a:xfrm>
              <a:off x="3941280" y="3751200"/>
              <a:ext cx="115308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12"/>
            <p:cNvSpPr/>
            <p:nvPr/>
          </p:nvSpPr>
          <p:spPr>
            <a:xfrm>
              <a:off x="3637080" y="4529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2) Measure the mas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13"/>
          <p:cNvGrpSpPr/>
          <p:nvPr/>
        </p:nvGrpSpPr>
        <p:grpSpPr>
          <a:xfrm>
            <a:off x="6610320" y="2924280"/>
            <a:ext cx="3645000" cy="2004840"/>
            <a:chOff x="6610320" y="2924280"/>
            <a:chExt cx="3645000" cy="2004840"/>
          </a:xfrm>
        </p:grpSpPr>
        <p:pic>
          <p:nvPicPr>
            <p:cNvPr id="340" name="Picture 14" descr="Untitled 14.png"/>
            <p:cNvPicPr/>
            <p:nvPr/>
          </p:nvPicPr>
          <p:blipFill>
            <a:blip r:embed="rId4"/>
            <a:srcRect l="25699" t="24021" r="31827" b="24021"/>
            <a:stretch/>
          </p:blipFill>
          <p:spPr>
            <a:xfrm>
              <a:off x="6610320" y="3805200"/>
              <a:ext cx="12250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5"/>
            <p:cNvSpPr/>
            <p:nvPr/>
          </p:nvSpPr>
          <p:spPr>
            <a:xfrm>
              <a:off x="6660000" y="2924280"/>
              <a:ext cx="3595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3) Measure the </a:t>
              </a:r>
              <a:br>
                <a:rPr sz="2200"/>
              </a:b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Picture 16" descr="Untitled 1.png"/>
          <p:cNvPicPr/>
          <p:nvPr/>
        </p:nvPicPr>
        <p:blipFill>
          <a:blip r:embed="rId5"/>
          <a:stretch/>
        </p:blipFill>
        <p:spPr>
          <a:xfrm>
            <a:off x="4040280" y="521352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7"/>
          <p:cNvSpPr/>
          <p:nvPr/>
        </p:nvSpPr>
        <p:spPr>
          <a:xfrm>
            <a:off x="5249880" y="5180040"/>
            <a:ext cx="21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4) Let  a part of the air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EASURE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45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908000" y="2104920"/>
            <a:ext cx="1152720" cy="874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Untitled 14.png"/>
          <p:cNvPicPr/>
          <p:nvPr/>
        </p:nvPicPr>
        <p:blipFill>
          <a:blip r:embed="rId2"/>
          <a:srcRect l="25699" t="24021" r="31827" b="24021"/>
          <a:stretch/>
        </p:blipFill>
        <p:spPr>
          <a:xfrm>
            <a:off x="468360" y="1901880"/>
            <a:ext cx="122544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611280" y="2967120"/>
          <a:ext cx="2489040" cy="346392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</a:tblGrid>
              <a:tr h="35568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vs. 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b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Object 95" descr=""/>
          <p:cNvPicPr/>
          <p:nvPr/>
        </p:nvPicPr>
        <p:blipFill>
          <a:blip r:embed="rId3"/>
          <a:stretch/>
        </p:blipFill>
        <p:spPr>
          <a:xfrm>
            <a:off x="2627280" y="1460520"/>
            <a:ext cx="6873840" cy="53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ASS OF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50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698480" y="1495440"/>
            <a:ext cx="1154160" cy="87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Untitled 14.png"/>
          <p:cNvPicPr/>
          <p:nvPr/>
        </p:nvPicPr>
        <p:blipFill>
          <a:blip r:embed="rId2"/>
          <a:srcRect l="25697" t="24021" r="31834" b="24021"/>
          <a:stretch/>
        </p:blipFill>
        <p:spPr>
          <a:xfrm>
            <a:off x="6939000" y="512928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135080" y="1560600"/>
          <a:ext cx="6872400" cy="539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1560600"/>
                    <a:ext cx="6872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Line 5"/>
          <p:cNvSpPr/>
          <p:nvPr/>
        </p:nvSpPr>
        <p:spPr>
          <a:xfrm flipV="1">
            <a:off x="3959280" y="3920760"/>
            <a:ext cx="0" cy="173052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698480" y="3917880"/>
            <a:ext cx="229716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1609560" y="389880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768320" y="4786200"/>
            <a:ext cx="67968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533320" y="5902200"/>
            <a:ext cx="1461960" cy="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084120" y="5946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P=1 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88320" y="416232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m=5,2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MASS OF AIR INSIDE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440" y="3321000"/>
            <a:ext cx="403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ass of air inside the 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 = 5.2 g for p = 1 b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stickers-ballon-foot-1-R1-172418-2.png"/>
          <p:cNvPicPr/>
          <p:nvPr/>
        </p:nvPicPr>
        <p:blipFill>
          <a:blip r:embed="rId1"/>
          <a:stretch/>
        </p:blipFill>
        <p:spPr>
          <a:xfrm>
            <a:off x="1530360" y="275256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 Praktikant1</dc:creator>
  <dc:description/>
  <dc:language>en-US</dc:language>
  <cp:lastModifiedBy>praktikant1</cp:lastModifiedBy>
  <dcterms:modified xsi:type="dcterms:W3CDTF">2016-07-06T13:20:23Z</dcterms:modified>
  <cp:revision>13</cp:revision>
  <dc:subject/>
  <dc:title>ISTAGE 3 TEACHING UNIT „UNDER PRESSURE“</dc:title>
</cp:coreProperties>
</file>